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DA8-EA7E-408C-A6A7-6042EDDE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0F2-9DD6-46BD-97DD-42767782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B36-DB4D-4EBA-81E1-26F0CAFE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2448-6CA3-4DA4-B464-54D9DD55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A6E-8356-4299-BF03-2361C8D8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924-2EAF-4EC9-B77F-426D1431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433-A41B-4871-A864-57DE50D1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82C6-18C8-4DEA-835D-2C19352A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C23-6449-4AA8-B1CC-9F8637AB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BA7-6827-43FE-B79D-A096EF6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051-D38D-4763-B94D-85746E9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2F1-0575-4EB5-96D5-E3398CC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F73F-BECA-4D8B-8376-38B64C35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500" spc="-1" strike="noStrike" u="sng">
                <a:solidFill>
                  <a:srgbClr val="000000"/>
                </a:solidFill>
                <a:uFillTx/>
                <a:latin typeface="Arial"/>
              </a:rPr>
              <a:t>THE CAT N’ MOUSE GAM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6400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ck Cho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flipV="1">
            <a:off x="22320" y="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8295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4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86200"/>
            <a:ext cx="3657600" cy="297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-533520" y="0"/>
            <a:ext cx="4114800" cy="24382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3733920" y="-360"/>
            <a:ext cx="7238880" cy="19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459000">
            <a:off x="2742840" y="3276360"/>
            <a:ext cx="342900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028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BEGIN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20120" y="6172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4335E-006 L -0.0125 0.67699 E">
                                      <p:cBhvr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2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ice Try</a:t>
            </a:r>
            <a:br>
              <a:rPr sz="8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HEATER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2133720" y="2590920"/>
            <a:ext cx="4800600" cy="1752480"/>
          </a:xfrm>
          <a:custGeom>
            <a:avLst/>
            <a:gdLst>
              <a:gd name="textAreaLeft" fmla="*/ 241200 w 4800600"/>
              <a:gd name="textAreaRight" fmla="*/ 4559400 w 4800600"/>
              <a:gd name="textAreaTop" fmla="*/ 241200 h 1752480"/>
              <a:gd name="textAreaBottom" fmla="*/ 1511280 h 1752480"/>
            </a:gdLst>
            <a:ahLst/>
            <a:rect l="textAreaLeft" t="textAreaTop" r="textAreaRight" b="textAreaBottom"/>
            <a:pathLst>
              <a:path w="59162" h="21600">
                <a:moveTo>
                  <a:pt x="0" y="0"/>
                </a:moveTo>
                <a:lnTo>
                  <a:pt x="59162" y="0"/>
                </a:lnTo>
                <a:lnTo>
                  <a:pt x="59162" y="21600"/>
                </a:lnTo>
                <a:lnTo>
                  <a:pt x="0" y="21600"/>
                </a:lnTo>
                <a:close/>
              </a:path>
              <a:path fill="lightenLess" w="59162" h="21600">
                <a:moveTo>
                  <a:pt x="0" y="0"/>
                </a:moveTo>
                <a:lnTo>
                  <a:pt x="59162" y="0"/>
                </a:lnTo>
                <a:lnTo>
                  <a:pt x="56188" y="2974"/>
                </a:lnTo>
                <a:lnTo>
                  <a:pt x="2974" y="2974"/>
                </a:lnTo>
                <a:close/>
              </a:path>
              <a:path fill="darken" w="59162" h="21600">
                <a:moveTo>
                  <a:pt x="59162" y="0"/>
                </a:moveTo>
                <a:lnTo>
                  <a:pt x="59162" y="21600"/>
                </a:lnTo>
                <a:lnTo>
                  <a:pt x="56188" y="18626"/>
                </a:lnTo>
                <a:lnTo>
                  <a:pt x="56188" y="2974"/>
                </a:lnTo>
                <a:close/>
              </a:path>
              <a:path fill="darkenLess" w="59162" h="21600">
                <a:moveTo>
                  <a:pt x="59162" y="21600"/>
                </a:moveTo>
                <a:lnTo>
                  <a:pt x="0" y="21600"/>
                </a:lnTo>
                <a:lnTo>
                  <a:pt x="2974" y="18626"/>
                </a:lnTo>
                <a:lnTo>
                  <a:pt x="56188" y="18626"/>
                </a:lnTo>
                <a:close/>
              </a:path>
              <a:path fill="lighten" w="59162" h="21600">
                <a:moveTo>
                  <a:pt x="0" y="21600"/>
                </a:moveTo>
                <a:lnTo>
                  <a:pt x="0" y="0"/>
                </a:lnTo>
                <a:lnTo>
                  <a:pt x="2974" y="2974"/>
                </a:lnTo>
                <a:lnTo>
                  <a:pt x="2974" y="186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5334120" cy="411480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898000">
            <a:off x="4952880" y="2971440"/>
            <a:ext cx="60195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OOD TR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876920"/>
            <a:ext cx="4191120" cy="1828800"/>
          </a:xfrm>
          <a:custGeom>
            <a:avLst/>
            <a:gdLst>
              <a:gd name="textAreaLeft" fmla="*/ 274680 w 4191120"/>
              <a:gd name="textAreaRight" fmla="*/ 3916440 w 4191120"/>
              <a:gd name="textAreaTop" fmla="*/ 274680 h 1828800"/>
              <a:gd name="textAreaBottom" fmla="*/ 1554120 h 1828800"/>
            </a:gdLst>
            <a:ahLst/>
            <a:rect l="textAreaLeft" t="textAreaTop" r="textAreaRight" b="textAreaBottom"/>
            <a:pathLst>
              <a:path w="49496" h="21600">
                <a:moveTo>
                  <a:pt x="0" y="0"/>
                </a:moveTo>
                <a:lnTo>
                  <a:pt x="49496" y="0"/>
                </a:lnTo>
                <a:lnTo>
                  <a:pt x="49496" y="21600"/>
                </a:lnTo>
                <a:lnTo>
                  <a:pt x="0" y="21600"/>
                </a:lnTo>
                <a:close/>
              </a:path>
              <a:path fill="lightenLess" w="49496" h="21600">
                <a:moveTo>
                  <a:pt x="0" y="0"/>
                </a:moveTo>
                <a:lnTo>
                  <a:pt x="49496" y="0"/>
                </a:lnTo>
                <a:lnTo>
                  <a:pt x="46252" y="3244"/>
                </a:lnTo>
                <a:lnTo>
                  <a:pt x="3244" y="3244"/>
                </a:lnTo>
                <a:close/>
              </a:path>
              <a:path fill="darken" w="49496" h="21600">
                <a:moveTo>
                  <a:pt x="49496" y="0"/>
                </a:moveTo>
                <a:lnTo>
                  <a:pt x="49496" y="21600"/>
                </a:lnTo>
                <a:lnTo>
                  <a:pt x="46252" y="18356"/>
                </a:lnTo>
                <a:lnTo>
                  <a:pt x="46252" y="3244"/>
                </a:lnTo>
                <a:close/>
              </a:path>
              <a:path fill="darkenLess" w="49496" h="21600">
                <a:moveTo>
                  <a:pt x="49496" y="21600"/>
                </a:moveTo>
                <a:lnTo>
                  <a:pt x="0" y="21600"/>
                </a:lnTo>
                <a:lnTo>
                  <a:pt x="3244" y="18356"/>
                </a:lnTo>
                <a:lnTo>
                  <a:pt x="46252" y="18356"/>
                </a:lnTo>
                <a:close/>
              </a:path>
              <a:path fill="lighten" w="49496" h="21600">
                <a:moveTo>
                  <a:pt x="0" y="21600"/>
                </a:moveTo>
                <a:lnTo>
                  <a:pt x="0" y="0"/>
                </a:lnTo>
                <a:lnTo>
                  <a:pt x="3244" y="3244"/>
                </a:lnTo>
                <a:lnTo>
                  <a:pt x="3244" y="1835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Ag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4876920"/>
            <a:ext cx="1828800" cy="1752480"/>
          </a:xfrm>
          <a:custGeom>
            <a:avLst/>
            <a:gdLst>
              <a:gd name="textAreaLeft" fmla="*/ 232560 w 1828800"/>
              <a:gd name="textAreaRight" fmla="*/ 1596240 w 1828800"/>
              <a:gd name="textAreaTop" fmla="*/ 232560 h 1752480"/>
              <a:gd name="textAreaBottom" fmla="*/ 151992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19675" y="2866"/>
                </a:lnTo>
                <a:lnTo>
                  <a:pt x="2866" y="2866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19675" y="18734"/>
                </a:lnTo>
                <a:lnTo>
                  <a:pt x="19675" y="2866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2866" y="18734"/>
                </a:lnTo>
                <a:lnTo>
                  <a:pt x="19675" y="18734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2866" y="2866"/>
                </a:lnTo>
                <a:lnTo>
                  <a:pt x="2866" y="1873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2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600" spc="-1" strike="noStrike">
                <a:solidFill>
                  <a:srgbClr val="000000"/>
                </a:solidFill>
                <a:latin typeface="Arial"/>
              </a:rPr>
              <a:t>Cheaters Never Win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5638680"/>
            <a:ext cx="3886200" cy="1067040"/>
          </a:xfrm>
          <a:custGeom>
            <a:avLst/>
            <a:gdLst>
              <a:gd name="textAreaLeft" fmla="*/ 146880 w 3886200"/>
              <a:gd name="textAreaRight" fmla="*/ 3739320 w 3886200"/>
              <a:gd name="textAreaTop" fmla="*/ 146880 h 1067040"/>
              <a:gd name="textAreaBottom" fmla="*/ 920160 h 1067040"/>
            </a:gdLst>
            <a:ahLst/>
            <a:rect l="textAreaLeft" t="textAreaTop" r="textAreaRight" b="textAreaBottom"/>
            <a:pathLst>
              <a:path w="78649" h="21600">
                <a:moveTo>
                  <a:pt x="0" y="0"/>
                </a:moveTo>
                <a:lnTo>
                  <a:pt x="78649" y="0"/>
                </a:lnTo>
                <a:lnTo>
                  <a:pt x="78649" y="21600"/>
                </a:lnTo>
                <a:lnTo>
                  <a:pt x="0" y="21600"/>
                </a:lnTo>
                <a:close/>
              </a:path>
              <a:path fill="lightenLess" w="78649" h="21600">
                <a:moveTo>
                  <a:pt x="0" y="0"/>
                </a:moveTo>
                <a:lnTo>
                  <a:pt x="78649" y="0"/>
                </a:lnTo>
                <a:lnTo>
                  <a:pt x="75675" y="2974"/>
                </a:lnTo>
                <a:lnTo>
                  <a:pt x="2974" y="2974"/>
                </a:lnTo>
                <a:close/>
              </a:path>
              <a:path fill="darken" w="78649" h="21600">
                <a:moveTo>
                  <a:pt x="78649" y="0"/>
                </a:moveTo>
                <a:lnTo>
                  <a:pt x="78649" y="21600"/>
                </a:lnTo>
                <a:lnTo>
                  <a:pt x="75675" y="18626"/>
                </a:lnTo>
                <a:lnTo>
                  <a:pt x="75675" y="2974"/>
                </a:lnTo>
                <a:close/>
              </a:path>
              <a:path fill="darkenLess" w="78649" h="21600">
                <a:moveTo>
                  <a:pt x="78649" y="21600"/>
                </a:moveTo>
                <a:lnTo>
                  <a:pt x="0" y="21600"/>
                </a:lnTo>
                <a:lnTo>
                  <a:pt x="2974" y="18626"/>
                </a:lnTo>
                <a:lnTo>
                  <a:pt x="75675" y="18626"/>
                </a:lnTo>
                <a:close/>
              </a:path>
              <a:path fill="lighten" w="78649" h="21600">
                <a:moveTo>
                  <a:pt x="0" y="21600"/>
                </a:moveTo>
                <a:lnTo>
                  <a:pt x="0" y="0"/>
                </a:lnTo>
                <a:lnTo>
                  <a:pt x="2974" y="2974"/>
                </a:lnTo>
                <a:lnTo>
                  <a:pt x="2974" y="1862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914400"/>
            <a:ext cx="5410080" cy="4419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5486400"/>
            <a:ext cx="3886200" cy="1066680"/>
          </a:xfrm>
          <a:custGeom>
            <a:avLst/>
            <a:gdLst>
              <a:gd name="textAreaLeft" fmla="*/ 168120 w 3886200"/>
              <a:gd name="textAreaRight" fmla="*/ 3718080 w 3886200"/>
              <a:gd name="textAreaTop" fmla="*/ 168120 h 1066680"/>
              <a:gd name="textAreaBottom" fmla="*/ 898560 h 1066680"/>
            </a:gdLst>
            <a:ahLst/>
            <a:rect l="textAreaLeft" t="textAreaTop" r="textAreaRight" b="textAreaBottom"/>
            <a:pathLst>
              <a:path w="78675" h="21600">
                <a:moveTo>
                  <a:pt x="0" y="0"/>
                </a:moveTo>
                <a:lnTo>
                  <a:pt x="78675" y="0"/>
                </a:lnTo>
                <a:lnTo>
                  <a:pt x="78675" y="21600"/>
                </a:lnTo>
                <a:lnTo>
                  <a:pt x="0" y="21600"/>
                </a:lnTo>
                <a:close/>
              </a:path>
              <a:path fill="lightenLess" w="78675" h="21600">
                <a:moveTo>
                  <a:pt x="0" y="0"/>
                </a:moveTo>
                <a:lnTo>
                  <a:pt x="78675" y="0"/>
                </a:lnTo>
                <a:lnTo>
                  <a:pt x="75268" y="3407"/>
                </a:lnTo>
                <a:lnTo>
                  <a:pt x="3407" y="3407"/>
                </a:lnTo>
                <a:close/>
              </a:path>
              <a:path fill="darken" w="78675" h="21600">
                <a:moveTo>
                  <a:pt x="78675" y="0"/>
                </a:moveTo>
                <a:lnTo>
                  <a:pt x="78675" y="21600"/>
                </a:lnTo>
                <a:lnTo>
                  <a:pt x="75268" y="18193"/>
                </a:lnTo>
                <a:lnTo>
                  <a:pt x="75268" y="3407"/>
                </a:lnTo>
                <a:close/>
              </a:path>
              <a:path fill="darkenLess" w="78675" h="21600">
                <a:moveTo>
                  <a:pt x="78675" y="21600"/>
                </a:moveTo>
                <a:lnTo>
                  <a:pt x="0" y="21600"/>
                </a:lnTo>
                <a:lnTo>
                  <a:pt x="3407" y="18193"/>
                </a:lnTo>
                <a:lnTo>
                  <a:pt x="75268" y="18193"/>
                </a:lnTo>
                <a:close/>
              </a:path>
              <a:path fill="lighten" w="78675" h="21600">
                <a:moveTo>
                  <a:pt x="0" y="21600"/>
                </a:moveTo>
                <a:lnTo>
                  <a:pt x="0" y="0"/>
                </a:lnTo>
                <a:lnTo>
                  <a:pt x="3407" y="3407"/>
                </a:lnTo>
                <a:lnTo>
                  <a:pt x="3407" y="1819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Ag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81080" y="685800"/>
            <a:ext cx="502920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Won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dit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² Game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hanks for Pla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14:21:53Z</dcterms:created>
  <dc:creator>CGB</dc:creator>
  <dc:description/>
  <dc:language>en-US</dc:language>
  <cp:lastModifiedBy>CGB</cp:lastModifiedBy>
  <dcterms:modified xsi:type="dcterms:W3CDTF">2008-06-11T13:48:38Z</dcterms:modified>
  <cp:revision>6</cp:revision>
  <dc:subject/>
  <dc:title>THE CAT N’ MOUSE GAME</dc:title>
</cp:coreProperties>
</file>